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media/CLIC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8213-D9BC-4DAD-97C2-132C921C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47AC-AF8E-4532-BD3A-8BEB30E6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A34-83C3-4985-9B1A-B9AEACA0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C16-353B-4C30-AB68-918EF00E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9CC4-B2A7-42A2-BA54-2F934F52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801C-AA34-4980-9016-69DB28E2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161E-5179-4B40-9EDE-67B5A320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DEE8-3647-4C54-8B51-69EC2006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8F6C-1267-4FFE-BDAB-68E8FFA5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1C2B-5B9D-4953-8374-B2BF2007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D1DF-075C-456F-832D-1211AEBC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0A0-8783-4FC5-9124-CC75D927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BDC8-B58F-462A-9CC6-8A65B2EB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6426-E2C6-4136-8707-6ED25D86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2635-ADDB-4438-90F7-2014B33A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8053-E661-4C11-AAF1-0AC6907E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6631-6162-4628-A361-816F6E87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A02-932E-4256-9610-04D162C5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9837-0390-485F-A11E-F250C0D9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ED0-361A-45BA-BA33-599C19B7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CCF-5BF4-4D1E-8F57-C6EFBB05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CEF-5714-44E7-8470-71E9537E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9DC-7489-438B-A131-AB37A243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A39C-92A0-4EF4-AA63-1EBF93B1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221C-8C76-46FC-98EF-58142932E6EE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84E0-FC63-4A83-BC7E-E02916628263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AR" sz="5400" spc="-1" strike="noStrike">
                <a:solidFill>
                  <a:srgbClr val="404176"/>
                </a:solidFill>
                <a:latin typeface="Arial"/>
              </a:rPr>
              <a:t>¿CÓMO ES UN ATOMO?</a:t>
            </a:r>
            <a:endParaRPr b="0" lang="en-US" sz="5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79" name="Atomo1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673360" cy="274320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r"/>
    <p:sndAc>
      <p:stSnd>
        <p:snd r:embed="rId2" name="CLIC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04176"/>
                </a:solidFill>
                <a:latin typeface="Arial"/>
              </a:rPr>
              <a:t>A la luz del modelo atómico  </a:t>
            </a:r>
            <a:br>
              <a:rPr sz="4400"/>
            </a:br>
            <a:r>
              <a:rPr b="0" lang="es-AR" sz="4400" spc="-1" strike="noStrike">
                <a:solidFill>
                  <a:srgbClr val="404176"/>
                </a:solidFill>
                <a:latin typeface="Arial"/>
              </a:rPr>
              <a:t> actual, el átomo con un diámetro de unos 0,00000001cm es un complejo universo dinámico</a:t>
            </a:r>
            <a:br>
              <a:rPr sz="4400"/>
            </a:b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advTm="3000">
    <p:wipe dir="r"/>
    <p:sndAc>
      <p:stSnd>
        <p:snd r:embed="rId1" name="CLIC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04176"/>
                </a:solidFill>
                <a:latin typeface="Arial"/>
              </a:rPr>
              <a:t>El átomo está formado por un núcleo y una zona periférica que contienen, a su vez, una importante cantidad de partículas más pequeñas, en continuo movimiento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p:transition advTm="3000">
    <p:wipe dir="r"/>
    <p:sndAc>
      <p:stSnd>
        <p:snd r:embed="rId1" name="CLIC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04176"/>
                </a:solidFill>
                <a:latin typeface="Arial"/>
              </a:rPr>
              <a:t>LAS PARTICULAS QUE INTEGRAN EL ATOMO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8383ad"/>
                </a:solidFill>
                <a:latin typeface="Arial"/>
              </a:rPr>
              <a:t>El átomo es eléctricamente neutro, pero está constituido por partículas que pueden o no poseer carga eléctrica. Se conoce una gran cantidad de partículas diferentes, las más importantes se denominan: electrones, protones y neutron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advTm="3000">
    <p:wipe dir="r"/>
    <p:sndAc>
      <p:stSnd>
        <p:snd r:embed="rId2" name="CLIC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04176"/>
                </a:solidFill>
                <a:latin typeface="Arial"/>
              </a:rPr>
              <a:t>Los proton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8383ad"/>
                </a:solidFill>
                <a:latin typeface="Arial"/>
              </a:rPr>
              <a:t>Poseen carga eléctrica positiva, se encuentran ubicados en el núcleo del átomo y son los que caracterizan el tipo del átomo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advTm="3000">
    <p:wipe dir="r"/>
    <p:sndAc>
      <p:stSnd>
        <p:snd r:embed="rId2" name="CLIC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04176"/>
                </a:solidFill>
                <a:latin typeface="Arial"/>
              </a:rPr>
              <a:t>Los electron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8383ad"/>
                </a:solidFill>
                <a:latin typeface="Arial"/>
              </a:rPr>
              <a:t>Poseen carga eléctrica negativa y se mueven a increíbles velocidades, alrededor del núcleo, formando una especie de envoltura divida en zonas conocidas como niveles de energía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advTm="3000">
    <p:wipe dir="r"/>
    <p:sndAc>
      <p:stSnd>
        <p:snd r:embed="rId2" name="CLIC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04176"/>
                </a:solidFill>
                <a:latin typeface="Arial"/>
              </a:rPr>
              <a:t>Los neutron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8383ad"/>
                </a:solidFill>
                <a:latin typeface="Arial"/>
              </a:rPr>
              <a:t>Son eléctricamente neutros y se encuentran junto con los protones, en el núcleo del átomo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advTm="3000">
    <p:wipe dir="r"/>
    <p:sndAc>
      <p:stSnd>
        <p:snd r:embed="rId2" name="CLIC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04176"/>
                </a:solidFill>
                <a:latin typeface="Arial"/>
              </a:rPr>
              <a:t>Características de las partícula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685800" y="1981080"/>
          <a:ext cx="7772400" cy="41911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235160"/>
                <a:gridCol w="1874880"/>
                <a:gridCol w="155412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Particula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Carga eléctrica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Masa real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Masa convensional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Ubicación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Electrón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negativa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10</a:t>
                      </a:r>
                      <a:r>
                        <a:rPr b="0" lang="es-AR" sz="2400" spc="-1" strike="noStrike" baseline="30000">
                          <a:solidFill>
                            <a:srgbClr val="8383ad"/>
                          </a:solidFill>
                          <a:latin typeface="Arial"/>
                        </a:rPr>
                        <a:t>-27</a:t>
                      </a:r>
                      <a:r>
                        <a:rPr b="0" lang="es-AR" sz="2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gr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despreciable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Niveles de</a:t>
                      </a:r>
                      <a:r>
                        <a:rPr b="0" lang="es-AR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es-AR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Energia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Protón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positiva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10</a:t>
                      </a:r>
                      <a:r>
                        <a:rPr b="0" lang="es-AR" sz="2400" spc="-1" strike="noStrike" baseline="30000">
                          <a:solidFill>
                            <a:srgbClr val="8383ad"/>
                          </a:solidFill>
                          <a:latin typeface="Arial"/>
                        </a:rPr>
                        <a:t>-24</a:t>
                      </a:r>
                      <a:r>
                        <a:rPr b="0" lang="es-AR" sz="2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gr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Núcleo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Neutrón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neutro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10</a:t>
                      </a:r>
                      <a:r>
                        <a:rPr b="0" lang="es-AR" sz="2400" spc="-1" strike="noStrike" baseline="30000">
                          <a:solidFill>
                            <a:srgbClr val="8383ad"/>
                          </a:solidFill>
                          <a:latin typeface="Arial"/>
                        </a:rPr>
                        <a:t>-24 </a:t>
                      </a:r>
                      <a:r>
                        <a:rPr b="0" lang="es-AR" sz="2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gr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Núcleo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838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advTm="3000">
    <p:wipe dir="r"/>
    <p:sndAc>
      <p:stSnd>
        <p:snd r:embed="rId1" name="CLIC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Atomo1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033720" cy="311292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 u="sng">
                <a:solidFill>
                  <a:srgbClr val="404176"/>
                </a:solidFill>
                <a:uFillTx/>
                <a:latin typeface="Arial"/>
              </a:rPr>
              <a:t>Fabiana E. Fernández</a:t>
            </a:r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p:transition advTm="3000">
    <p:wipe dir="r"/>
    <p:sndAc>
      <p:stSnd>
        <p:snd r:embed="rId2" name="CLIC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3:12:26Z</dcterms:created>
  <dc:creator>.</dc:creator>
  <dc:description/>
  <dc:language>en-US</dc:language>
  <cp:lastModifiedBy>Fabiana Fernandez</cp:lastModifiedBy>
  <dcterms:modified xsi:type="dcterms:W3CDTF">2000-12-01T18:38:11Z</dcterms:modified>
  <cp:revision>3</cp:revision>
  <dc:subject/>
  <dc:title> ¿CÓMO ES UN ATOMO?</dc:title>
</cp:coreProperties>
</file>